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push.wav" ContentType="audio/x-wav"/>
  <Override PartName="/ppt/media/image15.png" ContentType="image/png"/>
  <Override PartName="/ppt/media/drumroll.wav" ContentType="audio/x-wav"/>
  <Override PartName="/ppt/media/image5.jpeg" ContentType="image/jpeg"/>
  <Override PartName="/ppt/media/image7.jpeg" ContentType="image/jpeg"/>
  <Override PartName="/ppt/media/image9.png" ContentType="image/png"/>
  <Override PartName="/ppt/media/image10.png" ContentType="image/png"/>
  <Override PartName="/ppt/media/applause.wav" ContentType="audio/x-wav"/>
  <Override PartName="/ppt/media/image18.png" ContentType="image/png"/>
  <Override PartName="/ppt/media/image6.jpeg" ContentType="image/jpeg"/>
  <Override PartName="/ppt/media/image16.png" ContentType="image/png"/>
  <Override PartName="/ppt/media/chimes.wav" ContentType="audio/x-wav"/>
  <Override PartName="/ppt/media/image24.png" ContentType="image/png"/>
  <Override PartName="/ppt/media/image1.png" ContentType="image/png"/>
  <Override PartName="/ppt/media/suction.wav" ContentType="audio/x-wav"/>
  <Override PartName="/ppt/media/image8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breeze.wav" ContentType="audio/x-wav"/>
  <Override PartName="/ppt/media/camera.wav" ContentType="audio/x-wav"/>
  <Override PartName="/ppt/media/image22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A8F-CF12-4D7C-B396-01DDD195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634-932D-499D-A3DC-F3E395DC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A19-3014-499A-93EA-5E602208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486-801C-41AD-A243-C743D9D5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CBDF-B492-4C26-9301-6F86E14D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9528-3360-4314-8015-AAB8AB83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4808-BF7D-4B23-8B9E-0A0BB44B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A376-BBEF-4DD4-953C-84364B34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F751-2F1A-4598-B5BE-710057BE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4256-C5F5-48B3-AD8D-9AFE0EAB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9E76-7952-4307-BC80-92A57BB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B19-8163-454B-89BC-06718FCF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F698-E3C3-4387-A291-30764D9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5C00-2AB9-4115-8F57-F5B29704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00AB-210D-4E4F-BBC7-3CF128B2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ADB4-FDE0-48DB-AE1E-E1291A0F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399C-461C-4045-986C-B847D256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C99-2C82-483C-BEBC-91904F3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22A-8C07-48E4-8BC8-3FBBA94A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F1A-CC4A-498C-A99E-36E22F4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454-7510-4235-8851-46744D8F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54C-C378-48EA-9387-F681F1D0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BD5-25F6-4292-9831-36C4EEAC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3BC-A4D0-4149-B269-FFA3E7F2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23DB-4545-4D4A-9824-82414E6960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DA99-5EB7-4AE6-BF73-D3E63FE4A7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drumroll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audio" Target="../media/camera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9.png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audio" Target="../media/drumroll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audio" Target="../media/suction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image" Target="../media/image11.png"/><Relationship Id="rId6" Type="http://schemas.openxmlformats.org/officeDocument/2006/relationships/audio" Target="../media/push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054920" y="4508640"/>
              <a:ext cx="2089080" cy="23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filipp1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057400" cy="21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6912000" y="0"/>
              <a:ext cx="223200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 txBox="1"/>
          <p:nvPr/>
        </p:nvSpPr>
        <p:spPr>
          <a:xfrm rot="20092800">
            <a:off x="826560" y="2707920"/>
            <a:ext cx="633744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Garamond"/>
              </a:rPr>
              <a:t>IL VOLTO DELLA CHIES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528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2232000" cy="1433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 rot="19945800">
            <a:off x="20520" y="1152000"/>
            <a:ext cx="45054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Garamond"/>
              </a:rPr>
              <a:t>oggi come allo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Garamond"/>
              <a:ea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11920" y="1341360"/>
            <a:ext cx="2332080" cy="2952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708360" y="5734080"/>
            <a:ext cx="568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assidui nell'ascoltare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'insegnamento degli apostoli...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4211640" y="3860640"/>
            <a:ext cx="2160720" cy="1597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4140360" y="981000"/>
            <a:ext cx="2226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-611280" y="0"/>
            <a:ext cx="975528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2232000" cy="1433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 rot="19945800">
            <a:off x="20520" y="1152000"/>
            <a:ext cx="45054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Garamond"/>
              </a:rPr>
              <a:t>oggi come allo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Garamond"/>
              <a:ea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588000" y="163440"/>
            <a:ext cx="2684520" cy="1708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659640" y="37130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3708360" y="2060640"/>
            <a:ext cx="2736720" cy="15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611280" y="4221000"/>
            <a:ext cx="4943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assidui nella 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unione fraterna..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528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2232000" cy="1433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 rot="19945800">
            <a:off x="20520" y="1152000"/>
            <a:ext cx="45054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Garamond"/>
              </a:rPr>
              <a:t>oggi come allo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Garamond"/>
              <a:ea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00480" y="5805360"/>
            <a:ext cx="4943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assidui nella </a:t>
            </a:r>
            <a:endParaRPr b="0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razione del pane...</a:t>
            </a:r>
            <a:endParaRPr b="0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492360" y="2133720"/>
            <a:ext cx="2584440" cy="3311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940360" y="49320"/>
            <a:ext cx="3421080" cy="3305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122960" y="3716280"/>
            <a:ext cx="22021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528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2232000" cy="1433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200480" y="5805360"/>
            <a:ext cx="4943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assidui nelle 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eghiere...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 rot="19945800">
            <a:off x="20520" y="1152000"/>
            <a:ext cx="45054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Garamond"/>
              </a:rPr>
              <a:t>oggi come allo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Garamond"/>
              <a:ea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794640" y="189000"/>
            <a:ext cx="2349360" cy="170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81880" y="2781360"/>
            <a:ext cx="2562120" cy="2638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572000" y="333360"/>
            <a:ext cx="1800360" cy="1481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3780000" y="2205000"/>
            <a:ext cx="2479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00000" y="6480"/>
            <a:ext cx="7344000" cy="6843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49600" y="0"/>
            <a:ext cx="5644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77a4af"/>
                </a:solidFill>
                <a:latin typeface="Garamond"/>
              </a:rPr>
              <a:t>Per alcuni la Chiesa è come un distributore…..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65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Solo quando è a secco ….</a:t>
            </a:r>
            <a:br>
              <a:rPr sz="4000"/>
            </a:b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si ricorda di fare il pi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769440" cy="605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98440" y="0"/>
            <a:ext cx="67485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64000" y="2924280"/>
            <a:ext cx="6480000" cy="3765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er molti altri invece è 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a famigli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 luogo dove crescer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i fratelli e sorell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Ma leggiamo insieme come</a:t>
            </a:r>
            <a:br>
              <a:rPr sz="4000"/>
            </a:b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era la Chiesa in origine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4797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gni giorno tutti insieme frequentavano il tempio e spezzavano il pane a casa prendendo i pasti con letizia e semplicità di cuore, lodando Dio e godendo la simpatia di tutto il popo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32000" cy="1433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411280" y="620640"/>
            <a:ext cx="633744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Garamond"/>
              </a:rPr>
              <a:t>la prima comunità cristian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Garamond"/>
              <a:ea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62864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Atti degli Apostoli  2,42-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Erano assidui nell’ascoltare l’insegnamento degli apostoli e nell`unione fraterna, nella frazione del pane e nelle preghi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3213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utti coloro che erano diventati credenti stavano insieme e tenevano ogni cosa in comune; chi aveva proprietà e sostanze le vendeva e ne faceva parte a tutti, secondo il bisogno di ciascu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1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1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1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1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95,-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75,47,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280" y="4869000"/>
            <a:ext cx="2232000" cy="1433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732720" y="3716280"/>
            <a:ext cx="1536480" cy="1728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971640" y="2276640"/>
            <a:ext cx="770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Garamond"/>
              </a:rPr>
              <a:t>un mosaico viv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Garamond"/>
              <a:ea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84360" y="69228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Garamond"/>
              </a:rPr>
              <a:t>oggi come allo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Garamond"/>
              <a:ea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851280" y="3284640"/>
            <a:ext cx="1825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8:22:23Z</dcterms:created>
  <dc:creator>Paolo Gaudenzi</dc:creator>
  <dc:description/>
  <dc:language>en-US</dc:language>
  <cp:lastModifiedBy>Steo@Stefi</cp:lastModifiedBy>
  <dcterms:modified xsi:type="dcterms:W3CDTF">2008-01-25T17:39:15Z</dcterms:modified>
  <cp:revision>17</cp:revision>
  <dc:subject/>
  <dc:title>Diapositiva 1</dc:title>
</cp:coreProperties>
</file>